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DDE1-D245-4DB5-B09F-51823A3A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BB1-53FC-491B-9B8C-55ADE8C7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F84B-8762-4D43-8F51-D07FB66E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48EA-9974-4254-A27B-84D48C4C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D6C8-57A4-48B7-8360-8A4AF10F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FD28-13D3-4399-A39B-5E6E1500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A9D8-4122-49B2-96FE-DA846A4C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B76-D9AA-4C8F-A872-0A143046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9E00-D15C-4C5A-81BF-BFAAB987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548-D926-4596-BCD3-6A967072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E8D5-94E3-42EC-A52A-5A279755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8245-5E83-4E37-AA78-68469356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11D1-4961-4A17-BE2B-C622AE8E3A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cc3399"/>
                </a:solidFill>
                <a:latin typeface="Times New Roman"/>
                <a:ea typeface="隶书"/>
              </a:rPr>
              <a:t>做习惯的主人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黑体"/>
                <a:ea typeface="黑体"/>
              </a:rPr>
              <a:t>高二（</a:t>
            </a:r>
            <a:r>
              <a:rPr b="1" lang="zh-CN" sz="4400" spc="-1" strike="noStrike">
                <a:solidFill>
                  <a:srgbClr val="9900cc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9900cc"/>
                </a:solidFill>
                <a:latin typeface="黑体"/>
                <a:ea typeface="黑体"/>
              </a:rPr>
              <a:t>）主题班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黑体"/>
                <a:ea typeface="黑体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学习习惯治疗卡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填写此卡，尽量详细，针对具体的问题来解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7391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————月————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良学习习惯：————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怎样改进：——————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邀请———做我的评判人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提醒我要和坏习惯绝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星期后，我的表现怎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评判人给分：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不是表扬：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评判人签名：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明的学习习惯治疗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8380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良学习习惯：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不按时完成作业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上自习课的时候说：“晚上回家再做吧。”等回到家，吃完晚饭的时候，做了一会儿就想看电视，又说：“明天早上做吧！”结果总是推脱，最后到了交作业的时候，才发现自己还没完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怎样改进？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把每天的作业记在记事本上，回家之后，先做作业，再看电视，让父母监督，再没有做完作业之前，不许睡觉，老师上完一课我就立即做完这一课作业，让自己的同桌监督自己完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邀请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晓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我的评判人，提醒我要和怀习惯绝交，一星期后，我的表现怎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43000" y="609480"/>
            <a:ext cx="15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066680"/>
            <a:ext cx="822960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评判人给分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100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不是表扬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表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评判人签名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小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期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2005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年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9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月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7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当自己在改进不良学习习惯的时候，要取得家人和好朋友的帮助，让他们来做你的坚强的精神后盾。在自己无法坚持的时候，跟家人和好朋友及时地沟通，大家一起想办法。当自己取得进步的时候，也反馈给他们，让自己亲近的人能看见你的进步，也可以提高你的自信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84080" y="1519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真诚待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21400" y="151992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诚实守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16440" y="1519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认真负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61160" y="1553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自信自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7920" y="2485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遵守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98640" y="248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讲究效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43360" y="248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友善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15000" y="248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合理消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5400" y="3432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主动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6800" y="342828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独立思考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50280" y="342828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勇于实践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31000" y="3432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总结反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21640" y="225360"/>
            <a:ext cx="489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人格化好习惯的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12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指标 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17280" y="1295280"/>
            <a:ext cx="5331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北京有一家外资企业招工，对学历、外语、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身高、相貌的要求都很高，但薪酬挺高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所以有很多高素质人才都来应聘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     这一些年轻人，过五关斩六将 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     到了最后一关：总经理面试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　 这些年轻人想，这很简单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    只不过是走走过场罢了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     准十拿九稳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68360" y="1406880"/>
            <a:ext cx="6850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新舒体简体"/>
              </a:rPr>
              <a:t>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    一见面，总经理说：“很抱歉，年轻人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我有点急事，要出去</a:t>
            </a: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分钟，你们能不能等我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年轻人说：“没问题，您去吧，我们等您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老板走了，年轻人一个个踌躇满志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得意非凡，闲不着，围着老板的大写字台看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只见上面文件一摞，信一摞，资料一摞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年轻人你看这一摞，我看这一摞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看完了还交换：哎哟，这个好看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55343" b="0"/>
          <a:stretch/>
        </p:blipFill>
        <p:spPr>
          <a:xfrm>
            <a:off x="0" y="0"/>
            <a:ext cx="3457440" cy="6859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0" r="17" b="0"/>
          <a:stretch/>
        </p:blipFill>
        <p:spPr>
          <a:xfrm>
            <a:off x="1403280" y="0"/>
            <a:ext cx="774072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97400" y="1494000"/>
            <a:ext cx="3426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分钟后，总经理回来了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说：“面试已经结束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“没有啊？我们还在等您啊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老板说：“我不在的这一段时间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你们的表现就是面试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很遗憾，你们没有一个人被录取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319800">
            <a:off x="539640" y="1268280"/>
            <a:ext cx="7345440" cy="4608720"/>
          </a:xfrm>
          <a:prstGeom prst="rect">
            <a:avLst/>
          </a:prstGeom>
          <a:solidFill>
            <a:srgbClr val="99cc00">
              <a:alpha val="2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596200">
            <a:off x="801000" y="692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.number one."/>
                <a:ea typeface="华文彩云"/>
              </a:rPr>
              <a:t>温馨提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669000">
            <a:off x="2574360" y="2133360"/>
            <a:ext cx="2923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ff"/>
                </a:solidFill>
                <a:latin typeface=".number one."/>
                <a:ea typeface="方正水柱简体"/>
              </a:rPr>
              <a:t>习惯是一个人的资本，</a:t>
            </a:r>
            <a:br>
              <a:rPr sz="4000"/>
            </a:br>
            <a:r>
              <a:rPr b="1" lang="zh-CN" sz="4000" spc="-1" strike="noStrike">
                <a:solidFill>
                  <a:srgbClr val="9966ff"/>
                </a:solidFill>
                <a:latin typeface=".number one."/>
                <a:ea typeface="方正水柱简体"/>
              </a:rPr>
              <a:t>你有了好习惯，你一辈子</a:t>
            </a:r>
            <a:br>
              <a:rPr sz="4000"/>
            </a:br>
            <a:r>
              <a:rPr b="1" lang="zh-CN" sz="4000" spc="-1" strike="noStrike">
                <a:solidFill>
                  <a:srgbClr val="9966ff"/>
                </a:solidFill>
                <a:latin typeface=".number one."/>
                <a:ea typeface="方正水柱简体"/>
              </a:rPr>
              <a:t>都有用不完的利息，</a:t>
            </a:r>
            <a:br>
              <a:rPr sz="4000"/>
            </a:br>
            <a:r>
              <a:rPr b="1" lang="zh-CN" sz="4000" spc="-1" strike="noStrike">
                <a:solidFill>
                  <a:srgbClr val="9966ff"/>
                </a:solidFill>
                <a:latin typeface=".number one."/>
                <a:ea typeface="方正水柱简体"/>
              </a:rPr>
              <a:t>你有了坏习惯，你一辈子有</a:t>
            </a:r>
            <a:br>
              <a:rPr sz="4000"/>
            </a:br>
            <a:r>
              <a:rPr b="1" lang="zh-CN" sz="4000" spc="-1" strike="noStrike">
                <a:solidFill>
                  <a:srgbClr val="9966ff"/>
                </a:solidFill>
                <a:latin typeface=".number one."/>
                <a:ea typeface="方正水柱简体"/>
              </a:rPr>
              <a:t>偿还不了的债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54480" y="6707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想管住自己为什么管不住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不长记性，总是重复在同一个错误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原谅自己，在没有办法改变的时候就放弃了，然后给自己找各种各样的理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志薄弱，下决心要控制自己，可是总是在最后的关头又坚持不住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143000"/>
            <a:ext cx="815328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管得住自己，你是习惯的主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管不住自己，你是习惯的奴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                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做主人，还是做奴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                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全在于自己的选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改掉坏习惯的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交一些能够管住自己的朋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用写座右铭，挂字画等来提醒约束自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用写日记来管住自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学习习惯测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学过的功课，是不是加以复习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是不是预习要学的功课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上课的时候，注意力是否集中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是否喜欢回答老师的问题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上自习课的时候是否自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不懂的功课，是否向别人请教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是不是按时完成作业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是否喜欢参加讨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03:22:4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4:23:18Z</dcterms:modified>
  <cp:revision>15</cp:revision>
  <dc:subject>主题班会课件(分28大类): http://shop62905894.taobao.com</dc:subject>
  <dc:title>主题班会课件(分28大类): http://shop62905894.taobao.com</dc:title>
</cp:coreProperties>
</file>